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385A-A428-4CF8-993E-C252FC00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8986-20D7-4C9A-BEDC-5F785F1E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1406-A7B1-42D8-A819-E7651E4D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CFFA-3AEC-46AD-A668-6070A856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803A-C58B-48CB-AA57-5A7AF119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6E5F-E0A9-4EC1-B234-594513A0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3D53-9E3B-40DF-A4BC-804E8CD5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1856-6D99-4953-BD42-B62E9687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A5DF-1657-4270-94FE-FBBBA94F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040F-78E0-424F-A631-E2C3844E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D2C0-7ABD-42F5-90B3-3821DF24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BE5F-4037-4057-B954-0FE06BEC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BF621-8D76-40A9-A492-80037CFB68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8BEAE4-B644-4C92-A7AC-F79448E7C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55548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happened to the crew members Columbus left behind when he returned to Sp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id Balboa accomplis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id Magellan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 crew accomplis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533520" y="609480"/>
            <a:ext cx="80769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explo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erigo Vespucci was a chart maker who decided that this new land was NOT Asia. The new land took on the name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erigo.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t later became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erica.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533520" y="19051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1510, Balboa landed in Panama and walked to the Pacific Ocean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533520" y="83808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1519, Magellan sought to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ircumnavig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e globe. He followed the coast of South America all the way south until he found a way through to the Pacific Oce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happened to Magellan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 voyage then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image_Magellan_Elcano_Circumnavigation-en.svg.png"/>
          <p:cNvPicPr/>
          <p:nvPr/>
        </p:nvPicPr>
        <p:blipFill>
          <a:blip r:embed="rId1"/>
          <a:stretch/>
        </p:blipFill>
        <p:spPr>
          <a:xfrm>
            <a:off x="0" y="1108080"/>
            <a:ext cx="9144000" cy="46418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27"/>
          <p:cNvSpPr/>
          <p:nvPr/>
        </p:nvSpPr>
        <p:spPr>
          <a:xfrm>
            <a:off x="310320" y="5819760"/>
            <a:ext cx="85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ella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voyage circumnavigated the glo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image_Hernando_de_Magallanes_del_museo_Madrid.jpg"/>
          <p:cNvPicPr/>
          <p:nvPr/>
        </p:nvPicPr>
        <p:blipFill>
          <a:blip r:embed="rId1"/>
          <a:stretch/>
        </p:blipFill>
        <p:spPr>
          <a:xfrm>
            <a:off x="3646440" y="0"/>
            <a:ext cx="54975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0" y="480960"/>
            <a:ext cx="3429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ella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expedition circumnavigated the globe. 1519-152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expedition proved the size of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872800" y="2286000"/>
            <a:ext cx="45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umbian Ex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642240" y="1523880"/>
            <a:ext cx="693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ffect do you think the Columbia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on the cultures it touch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228600" y="762120"/>
            <a:ext cx="739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k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kings were probably the first Europeans to reach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ived around 1000 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kings soon abandoned their settlements in North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ative Americans had adapted to the harsh conditions over thousands of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image_Viking to new world"/>
          <p:cNvPicPr/>
          <p:nvPr/>
        </p:nvPicPr>
        <p:blipFill>
          <a:blip r:embed="rId1"/>
          <a:stretch/>
        </p:blipFill>
        <p:spPr>
          <a:xfrm>
            <a:off x="304920" y="457200"/>
            <a:ext cx="8607240" cy="5392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1964160" y="5942160"/>
            <a:ext cx="48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king voyages to New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685800" y="533520"/>
            <a:ext cx="7931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um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rtugal refuses to fund Columbus. Why? Two reas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2"/>
          <p:cNvSpPr/>
          <p:nvPr/>
        </p:nvSpPr>
        <p:spPr>
          <a:xfrm>
            <a:off x="685800" y="533520"/>
            <a:ext cx="7931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um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rtugal refuses to fund Columbus. Why? Two reas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g Ferdinand and Queen Isabella of SPAIN funded Columbus…after six years of effort by Columbus to convince the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679320" y="1523880"/>
            <a:ext cx="7931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umbus sailed in August, 1492, and landed in October, 1492. The trip took about six weeks. What lie did he tell his sail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685800" y="533520"/>
            <a:ext cx="7931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umbus believed he had reached As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 established settlement at Hispaniola, near Cub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 sailed home and told of GO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 returned to America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ith 17 ships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oldier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What did he fi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umbus enslaved Native Americans and forced them to dig for g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olumbus first voyage.jpg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445284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762120" y="51624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bus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irst voyage took six wee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2:54:29Z</dcterms:created>
  <dc:creator>Thomas Hagerty</dc:creator>
  <dc:description/>
  <dc:language>en-US</dc:language>
  <cp:lastModifiedBy>Thomas Hagerty</cp:lastModifiedBy>
  <cp:lastPrinted>2012-09-12T11:41:13Z</cp:lastPrinted>
  <dcterms:modified xsi:type="dcterms:W3CDTF">2014-09-22T01:42:55Z</dcterms:modified>
  <cp:revision>29</cp:revision>
  <dc:subject/>
  <dc:title>Slide 1</dc:title>
</cp:coreProperties>
</file>